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A21-F35C-4868-BD48-360E4E80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A6E-A694-49C6-899C-88AF7C4B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77C4-5917-4065-A710-5323CD03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DA4A-FA0D-4C0D-A0F0-2F809AA3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F331-F3E3-4B08-BD07-BDC62278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1097-5D79-4FC9-97D1-3E03CB82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864A-BB2D-4771-A0D4-6B3578C5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4746-4A1B-4C94-9F29-73B3DF64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5D68-A6E2-43AB-95EF-5A6F5663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8260-A65C-4C9F-A609-E07EF589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0C7C-6EB6-465E-94C6-D46AABD8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609-849B-4A7D-9A91-AC8723C8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18C9-6E81-4F7A-BB1C-9BC05361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7AD6-E246-4AFE-BC60-B80DABF7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E62E-2740-4EAC-9FD3-93C151C7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6736E-E979-448D-8AD2-380DF0DD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61C8-5D5E-428C-8BE1-1A499CCB3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1859-56D5-4A5D-93C3-3284F4D0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891D-50CA-4C5B-9BB4-DEB7FE4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DC64-5C86-49E3-AFC0-C18C6A9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36F5-D8F1-4381-B48B-676B9B00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36B8-FD68-45AD-BB8C-D56C4B96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FE14-DF36-40D9-8CA0-10407F72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067E-EF3C-4576-B08D-261B7643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365C-7B87-4FC4-978D-14D7FB522710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2AB9-8FEA-48BE-ACE1-C1E1DE346D1D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63200" cy="6596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9"/>
          <p:cNvPicPr/>
          <p:nvPr/>
        </p:nvPicPr>
        <p:blipFill>
          <a:blip r:embed="rId2"/>
          <a:stretch/>
        </p:blipFill>
        <p:spPr>
          <a:xfrm>
            <a:off x="179280" y="4797360"/>
            <a:ext cx="2594160" cy="183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3"/>
          <p:cNvPicPr/>
          <p:nvPr/>
        </p:nvPicPr>
        <p:blipFill>
          <a:blip r:embed="rId3"/>
          <a:stretch/>
        </p:blipFill>
        <p:spPr>
          <a:xfrm>
            <a:off x="6516720" y="4797360"/>
            <a:ext cx="2374920" cy="172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10"/>
          <p:cNvPicPr/>
          <p:nvPr/>
        </p:nvPicPr>
        <p:blipFill>
          <a:blip r:embed="rId4"/>
          <a:stretch/>
        </p:blipFill>
        <p:spPr>
          <a:xfrm>
            <a:off x="3348000" y="4005360"/>
            <a:ext cx="2736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214280" y="1071720"/>
            <a:ext cx="73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государственные вопро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Содержимое 6"/>
          <p:cNvGraphicFramePr/>
          <p:nvPr/>
        </p:nvGraphicFramePr>
        <p:xfrm>
          <a:off x="395280" y="1557360"/>
          <a:ext cx="833112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Содержимое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557360"/>
                    <a:ext cx="833112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3"/>
          <p:cNvSpPr/>
          <p:nvPr/>
        </p:nvSpPr>
        <p:spPr>
          <a:xfrm>
            <a:off x="395280" y="1484280"/>
            <a:ext cx="8280360" cy="172872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0,1 тыс. рублей (41,4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Овал 3"/>
          <p:cNvSpPr/>
          <p:nvPr/>
        </p:nvSpPr>
        <p:spPr>
          <a:xfrm>
            <a:off x="1528920" y="1652760"/>
            <a:ext cx="6265800" cy="14414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Национальная эконом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 270,8 тыс. рублей ( 93,7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Блок-схема: альтернативный процесс 16"/>
          <p:cNvSpPr/>
          <p:nvPr/>
        </p:nvSpPr>
        <p:spPr>
          <a:xfrm>
            <a:off x="108000" y="3357720"/>
            <a:ext cx="4968720" cy="12268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орожное хозяйство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(дорожные фонды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 270,8 тыс. рублей (94,7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2" name="Прямая со стрелкой 22"/>
          <p:cNvCxnSpPr/>
          <p:nvPr/>
        </p:nvCxnSpPr>
        <p:spPr>
          <a:xfrm>
            <a:off x="4859280" y="3094200"/>
            <a:ext cx="1658160" cy="155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Блок-схема: альтернативный процесс 33"/>
          <p:cNvSpPr/>
          <p:nvPr/>
        </p:nvSpPr>
        <p:spPr>
          <a:xfrm>
            <a:off x="4500720" y="4653000"/>
            <a:ext cx="4370400" cy="198900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вопросы в области национальной экономики  0,0 тыс. рублей  (0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3496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571680" y="12142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ая эконом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Диаграмма 4"/>
          <p:cNvGraphicFramePr/>
          <p:nvPr/>
        </p:nvGraphicFramePr>
        <p:xfrm>
          <a:off x="1332000" y="1952640"/>
          <a:ext cx="6197400" cy="41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52640"/>
                    <a:ext cx="6197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Овал 3"/>
          <p:cNvSpPr/>
          <p:nvPr/>
        </p:nvSpPr>
        <p:spPr>
          <a:xfrm>
            <a:off x="1403280" y="1125360"/>
            <a:ext cx="6265800" cy="14385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Жилищно-коммунальное хозяй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214,3тыс. рублей (36,0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Блок-схема: альтернативный процесс 18"/>
          <p:cNvSpPr/>
          <p:nvPr/>
        </p:nvSpPr>
        <p:spPr>
          <a:xfrm>
            <a:off x="2771640" y="4221000"/>
            <a:ext cx="3888000" cy="2232360"/>
          </a:xfrm>
          <a:prstGeom prst="flowChartAlternate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закупку энергетических ресурсов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182,9 тыс. рублей ( 50,9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Блок-схема: альтернативный процесс 33"/>
          <p:cNvSpPr/>
          <p:nvPr/>
        </p:nvSpPr>
        <p:spPr>
          <a:xfrm>
            <a:off x="5148360" y="2852640"/>
            <a:ext cx="2786040" cy="74448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Коммунальное хозяйств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190,3 тыс. рублей ( 42,5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3" name="Прямая со стрелкой 34"/>
          <p:cNvCxnSpPr>
            <a:stCxn id="130" idx="6"/>
            <a:endCxn id="132" idx="0"/>
          </p:cNvCxnSpPr>
          <p:nvPr/>
        </p:nvCxnSpPr>
        <p:spPr>
          <a:xfrm flipH="1">
            <a:off x="6541200" y="1844640"/>
            <a:ext cx="11278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Блок-схема: альтернативный процесс 52"/>
          <p:cNvSpPr/>
          <p:nvPr/>
        </p:nvSpPr>
        <p:spPr>
          <a:xfrm>
            <a:off x="395280" y="2708280"/>
            <a:ext cx="2787480" cy="9302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f0"/>
                </a:solidFill>
                <a:latin typeface="Times New Roman"/>
              </a:rPr>
              <a:t>Благ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Times New Roman"/>
              </a:rPr>
              <a:t>24,0тыс. рублей (16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5" name="Прямая со стрелкой 53"/>
          <p:cNvCxnSpPr>
            <a:stCxn id="130" idx="4"/>
            <a:endCxn id="134" idx="0"/>
          </p:cNvCxnSpPr>
          <p:nvPr/>
        </p:nvCxnSpPr>
        <p:spPr>
          <a:xfrm flipH="1">
            <a:off x="1788480" y="2563560"/>
            <a:ext cx="27486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6" name="Прямая со стрелкой 17415"/>
          <p:cNvCxnSpPr>
            <a:stCxn id="134" idx="2"/>
          </p:cNvCxnSpPr>
          <p:nvPr/>
        </p:nvCxnSpPr>
        <p:spPr>
          <a:xfrm>
            <a:off x="1788840" y="3638160"/>
            <a:ext cx="1080" cy="142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  <p:cxnSp>
        <p:nvCxnSpPr>
          <p:cNvPr id="137" name="Соединительная линия уступом 19"/>
          <p:cNvCxnSpPr>
            <a:endCxn id="131" idx="3"/>
          </p:cNvCxnSpPr>
          <p:nvPr/>
        </p:nvCxnSpPr>
        <p:spPr>
          <a:xfrm rot="5400000">
            <a:off x="5955840" y="4348080"/>
            <a:ext cx="1692720" cy="286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8" name="Скругленный прямоугольник 1"/>
          <p:cNvSpPr/>
          <p:nvPr/>
        </p:nvSpPr>
        <p:spPr>
          <a:xfrm>
            <a:off x="395280" y="4076640"/>
            <a:ext cx="2305080" cy="2737080"/>
          </a:xfrm>
          <a:custGeom>
            <a:avLst/>
            <a:gdLst>
              <a:gd name="textAreaLeft" fmla="*/ 112320 w 2305080"/>
              <a:gd name="textAreaRight" fmla="*/ 2192760 w 2305080"/>
              <a:gd name="textAreaTop" fmla="*/ 112320 h 2737080"/>
              <a:gd name="textAreaBottom" fmla="*/ 2624760 h 2737080"/>
            </a:gdLst>
            <a:ahLst/>
            <a:rect l="textAreaLeft" t="textAreaTop" r="textAreaRight" b="textAreaBottom"/>
            <a:pathLst>
              <a:path w="21600" h="25647">
                <a:moveTo>
                  <a:pt x="3600" y="0"/>
                </a:moveTo>
                <a:arcTo wR="3600" hR="3600" stAng="16200000" swAng="-5400000"/>
                <a:lnTo>
                  <a:pt x="0" y="22047"/>
                </a:lnTo>
                <a:arcTo wR="3600" hR="3600" stAng="10800000" swAng="-5400000"/>
                <a:lnTo>
                  <a:pt x="18000" y="256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ходы на благоустройство территории Митякинского 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9" name="Прямая со стрелкой 4"/>
          <p:cNvCxnSpPr/>
          <p:nvPr/>
        </p:nvCxnSpPr>
        <p:spPr>
          <a:xfrm>
            <a:off x="1788840" y="3710160"/>
            <a:ext cx="1080" cy="367200"/>
          </a:xfrm>
          <a:prstGeom prst="straightConnector1">
            <a:avLst/>
          </a:prstGeom>
          <a:ln w="9360">
            <a:solidFill>
              <a:srgbClr val="988744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1258920" y="857160"/>
            <a:ext cx="51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илищно- коммунальное хозяйст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Диаграмма 4"/>
          <p:cNvGraphicFramePr/>
          <p:nvPr/>
        </p:nvGraphicFramePr>
        <p:xfrm>
          <a:off x="306360" y="1298520"/>
          <a:ext cx="8813880" cy="5157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360" y="1298520"/>
                    <a:ext cx="881388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5"/>
          <p:cNvSpPr/>
          <p:nvPr/>
        </p:nvSpPr>
        <p:spPr>
          <a:xfrm>
            <a:off x="158760" y="25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Овал 3"/>
          <p:cNvSpPr/>
          <p:nvPr/>
        </p:nvSpPr>
        <p:spPr>
          <a:xfrm>
            <a:off x="1528920" y="1214280"/>
            <a:ext cx="6265800" cy="157176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Культура, кинематограф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2 736,6 тыс. рублей (43,9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Блок-схема: альтернативный процесс 16"/>
          <p:cNvSpPr/>
          <p:nvPr/>
        </p:nvSpPr>
        <p:spPr>
          <a:xfrm>
            <a:off x="3203640" y="2924280"/>
            <a:ext cx="2397240" cy="10713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ульту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 736,6 тыс. рублей (43,9 %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Прямая со стрелкой 22"/>
          <p:cNvCxnSpPr>
            <a:endCxn id="146" idx="0"/>
          </p:cNvCxnSpPr>
          <p:nvPr/>
        </p:nvCxnSpPr>
        <p:spPr>
          <a:xfrm flipH="1">
            <a:off x="4401360" y="2781000"/>
            <a:ext cx="262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" name="Скругленный прямоугольник 13"/>
          <p:cNvSpPr/>
          <p:nvPr/>
        </p:nvSpPr>
        <p:spPr>
          <a:xfrm>
            <a:off x="1042920" y="4292640"/>
            <a:ext cx="7345440" cy="187308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Расходы на обеспечение деятельности (оказание услуг) муниципальных бюджетных учреждений Митякинского сельского поселения, в том числе на предоставление субсидий муниципальным бюджетным учреждениям Митякинского сельского поселения в рамках подпрограммы «Развитие культуры» муниципальной программы Митякинского сельского поселения «Развитие культуры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736,6тыс. рублей ( 43,9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Прямая со стрелкой 24"/>
          <p:cNvCxnSpPr>
            <a:stCxn id="146" idx="2"/>
            <a:endCxn id="148" idx="0"/>
          </p:cNvCxnSpPr>
          <p:nvPr/>
        </p:nvCxnSpPr>
        <p:spPr>
          <a:xfrm>
            <a:off x="4401720" y="3995280"/>
            <a:ext cx="315000" cy="29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785880" y="7650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ультура, кинематогра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Диаграмма 4"/>
          <p:cNvGraphicFramePr/>
          <p:nvPr/>
        </p:nvGraphicFramePr>
        <p:xfrm>
          <a:off x="-50760" y="1346040"/>
          <a:ext cx="9353520" cy="48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3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346040"/>
                    <a:ext cx="9353520" cy="48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"/>
          <p:cNvSpPr/>
          <p:nvPr/>
        </p:nvSpPr>
        <p:spPr>
          <a:xfrm>
            <a:off x="84240" y="44280"/>
            <a:ext cx="9037440" cy="11912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 «Митякинское сельское поселени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за 2 квартал  2025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оугольник 4"/>
          <p:cNvSpPr/>
          <p:nvPr/>
        </p:nvSpPr>
        <p:spPr>
          <a:xfrm>
            <a:off x="395280" y="1413000"/>
            <a:ext cx="842472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27.12.2024 № 38 «О бюджете Митякинского сельского  поселения Тарасовского района на 2025 год и на плановый период 2026 и 2027 годов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0.02.2025 №2 «О внесении изменений в решение Собрания депутатов Митякинского сельского поселения от 27.12.2024 № 38 «О бюджете Митякинского сельского  поселения Тарасовского района на 2025 год и на плановый период 2026 и 2027 годов»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шения Собрания депутатов Митякинского сельского поселения от 15.05.2025 №7 «О внесении изменений в решение Собрания депутатов Митякинского сельского поселения от 27.12.2024 № 38 «О бюджете Митякинского сельского  поселения Тарасовского района на 2025 год и на плановый период 2026 и 2027 годов»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ектор экономики и финансов 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итякинского сельского пос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Митякинского сельского поселения</a:t>
            </a:r>
            <a:r>
              <a:rPr b="0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 2025 год и на плановый период 2026 и 2027 го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000080"/>
          <a:ext cx="8772480" cy="2857680"/>
        </p:xfrm>
        <a:graphic>
          <a:graphicData uri="http://schemas.openxmlformats.org/drawingml/2006/table">
            <a:tbl>
              <a:tblPr/>
              <a:tblGrid>
                <a:gridCol w="2192400"/>
                <a:gridCol w="2193840"/>
                <a:gridCol w="2192400"/>
                <a:gridCol w="2193840"/>
              </a:tblGrid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5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6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2027 год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79,1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889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246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24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009,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889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246,8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  <a:tr h="71460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543466"/>
                          </a:solidFill>
                          <a:latin typeface="Times New Roman"/>
                          <a:ea typeface="Times New Roman"/>
                        </a:rPr>
                        <a:t>Дефицит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d5a3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129,9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f1e0"/>
                    </a:solidFill>
                  </a:tcPr>
                </a:tc>
              </a:tr>
            </a:tbl>
          </a:graphicData>
        </a:graphic>
      </p:graphicFrame>
      <p:sp>
        <p:nvSpPr>
          <p:cNvPr id="90" name="Прямоугольник 5"/>
          <p:cNvSpPr/>
          <p:nvPr/>
        </p:nvSpPr>
        <p:spPr>
          <a:xfrm>
            <a:off x="179280" y="402912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ми источниками финансирования дефицита бюджета поселения в 2025 году является изменение остатков на счетах по учёту средств бюдже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11"/>
          <p:cNvSpPr/>
          <p:nvPr/>
        </p:nvSpPr>
        <p:spPr>
          <a:xfrm>
            <a:off x="179280" y="544500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ое исполнение бюджета Митякинского сельского поселения за 2 квартал  2025 года составило по доходам в сумме 10 191,2 тыс. рублей (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,0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уточнённого плана) и по расходам в сумме 8 464,7 тыс. рублей (44,5 % от уточненного плана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доходам за 2 квартал 2025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785880"/>
          <a:ext cx="8642160" cy="5840280"/>
        </p:xfrm>
        <a:graphic>
          <a:graphicData uri="http://schemas.openxmlformats.org/drawingml/2006/table">
            <a:tbl>
              <a:tblPr/>
              <a:tblGrid>
                <a:gridCol w="5189400"/>
                <a:gridCol w="1266840"/>
                <a:gridCol w="1150920"/>
                <a:gridCol w="1035000"/>
              </a:tblGrid>
              <a:tr h="71100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5 г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1 квартал., тыс.рублей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исполнения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34776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613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164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33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59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263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2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6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224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505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8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79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7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939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7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664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067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987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58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17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23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1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1600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4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27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fe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79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19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оугольник 3"/>
          <p:cNvGrpSpPr/>
          <p:nvPr/>
        </p:nvGrpSpPr>
        <p:grpSpPr>
          <a:xfrm>
            <a:off x="-122400" y="30240"/>
            <a:ext cx="9394920" cy="920520"/>
            <a:chOff x="-122400" y="30240"/>
            <a:chExt cx="9394920" cy="920520"/>
          </a:xfrm>
        </p:grpSpPr>
        <p:pic>
          <p:nvPicPr>
            <p:cNvPr id="95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2400" y="30240"/>
              <a:ext cx="939492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Основные направления по доходам за 2 квартал 2025 го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97" name="Диаграмма 3"/>
          <p:cNvGraphicFramePr/>
          <p:nvPr/>
        </p:nvGraphicFramePr>
        <p:xfrm>
          <a:off x="139680" y="1052640"/>
          <a:ext cx="8686800" cy="5676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9680" y="1052640"/>
                    <a:ext cx="8686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сполнение бюджета по расходам за 2 квартал 2025 г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857160"/>
          <a:ext cx="8740800" cy="4141800"/>
        </p:xfrm>
        <a:graphic>
          <a:graphicData uri="http://schemas.openxmlformats.org/drawingml/2006/table">
            <a:tbl>
              <a:tblPr/>
              <a:tblGrid>
                <a:gridCol w="5257800"/>
                <a:gridCol w="431640"/>
                <a:gridCol w="314280"/>
                <a:gridCol w="289080"/>
                <a:gridCol w="936720"/>
                <a:gridCol w="934920"/>
                <a:gridCol w="57636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5 г.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 квартал, тыс.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0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6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50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72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224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езервный фон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1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650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5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жное хозяйство (дорожные фонды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4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70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60200" y="260280"/>
          <a:ext cx="8804520" cy="351468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422280"/>
                <a:gridCol w="432000"/>
                <a:gridCol w="1028520"/>
                <a:gridCol w="934920"/>
                <a:gridCol w="486000"/>
              </a:tblGrid>
              <a:tr h="127800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Уточненный план на 2025 г.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 квартал, тыс. рубл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% испол-нен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707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03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оммунальное 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7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10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7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09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660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3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3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07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235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36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703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  <a:tr h="2682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53436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009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464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5"/>
          <p:cNvSpPr/>
          <p:nvPr/>
        </p:nvSpPr>
        <p:spPr>
          <a:xfrm>
            <a:off x="158760" y="12600"/>
            <a:ext cx="871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за 2 квартал 2025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Содержимое 5"/>
          <p:cNvGraphicFramePr/>
          <p:nvPr/>
        </p:nvGraphicFramePr>
        <p:xfrm>
          <a:off x="568440" y="1919160"/>
          <a:ext cx="8331120" cy="48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Содержимое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1919160"/>
                    <a:ext cx="8331120" cy="48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5"/>
          <p:cNvSpPr/>
          <p:nvPr/>
        </p:nvSpPr>
        <p:spPr>
          <a:xfrm>
            <a:off x="158760" y="25560"/>
            <a:ext cx="871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Arial"/>
              </a:rPr>
              <a:t>Исполнение бюджета поселения за 2 квартал 2025 года в разрезе функциональной классификации расх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Овал 3"/>
          <p:cNvSpPr/>
          <p:nvPr/>
        </p:nvSpPr>
        <p:spPr>
          <a:xfrm>
            <a:off x="1714680" y="1071720"/>
            <a:ext cx="6002280" cy="1439640"/>
          </a:xfrm>
          <a:prstGeom prst="ellipse">
            <a:avLst/>
          </a:prstGeom>
          <a:solidFill>
            <a:srgbClr val="7e4e99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Общегосударственные вопро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4 068,0тыс. рублей (39,0 %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Блок-схема: альтернативный процесс 7"/>
          <p:cNvSpPr/>
          <p:nvPr/>
        </p:nvSpPr>
        <p:spPr>
          <a:xfrm>
            <a:off x="539640" y="2924280"/>
            <a:ext cx="2664000" cy="220176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 729,2тыс. рублей (39,2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Блок-схема: альтернативный процесс 8"/>
          <p:cNvSpPr/>
          <p:nvPr/>
        </p:nvSpPr>
        <p:spPr>
          <a:xfrm>
            <a:off x="6156360" y="2565360"/>
            <a:ext cx="2879640" cy="971640"/>
          </a:xfrm>
          <a:prstGeom prst="flowChartAlternateProcess">
            <a:avLst/>
          </a:prstGeom>
          <a:solidFill>
            <a:srgbClr val="4f4d52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Другие общегосударственные вопрос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38,8тыс. рублей (38,0 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Блок-схема: процесс 11"/>
          <p:cNvSpPr/>
          <p:nvPr/>
        </p:nvSpPr>
        <p:spPr>
          <a:xfrm>
            <a:off x="3492360" y="5535720"/>
            <a:ext cx="2374920" cy="1122120"/>
          </a:xfrm>
          <a:prstGeom prst="flowChartProcess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Центральный аппара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 729,2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ыс. рублей (39,2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0" name="Прямая со стрелкой 14"/>
          <p:cNvCxnSpPr>
            <a:stCxn id="106" idx="4"/>
            <a:endCxn id="107" idx="0"/>
          </p:cNvCxnSpPr>
          <p:nvPr/>
        </p:nvCxnSpPr>
        <p:spPr>
          <a:xfrm flipH="1">
            <a:off x="1871280" y="2511000"/>
            <a:ext cx="2845440" cy="41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17"/>
          <p:cNvCxnSpPr>
            <a:stCxn id="106" idx="5"/>
            <a:endCxn id="108" idx="0"/>
          </p:cNvCxnSpPr>
          <p:nvPr/>
        </p:nvCxnSpPr>
        <p:spPr>
          <a:xfrm>
            <a:off x="6837480" y="2300400"/>
            <a:ext cx="759600" cy="265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44"/>
          <p:cNvCxnSpPr>
            <a:stCxn id="107" idx="2"/>
            <a:endCxn id="109" idx="0"/>
          </p:cNvCxnSpPr>
          <p:nvPr/>
        </p:nvCxnSpPr>
        <p:spPr>
          <a:xfrm>
            <a:off x="1871280" y="5126040"/>
            <a:ext cx="2809080" cy="4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Home</cp:lastModifiedBy>
  <dcterms:modified xsi:type="dcterms:W3CDTF">2025-07-08T08:47:48Z</dcterms:modified>
  <cp:revision>39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